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2.jpeg" ContentType="image/jpeg"/>
  <Override PartName="/ppt/media/image14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A6BA-E891-46D1-B3A6-C3A96DE4C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18A2-7AE8-406E-A43B-F7757A6E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3E74-A9EC-4393-8BB7-39300A47C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8D45-7491-4C67-A259-4F1BC2076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0B78-F166-438F-AABF-2CBA57D95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7A2E-8B78-43EE-BEA5-C023F9A8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D732-D46B-4B02-9CAA-753A38B4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61F8-F5B0-4D45-BD55-66A2CAB4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71E3-6020-4F94-A2DF-3C47A780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FB4D-BE5B-4092-9C4C-E0A73189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C87E-A496-4C01-90E5-2C61ACC7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F8E2-637E-459F-9D42-AB64621D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944A-5DFD-4012-BEE3-24D0F956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0356-AF52-48D4-BA35-8062BC60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CED1-64E6-460D-BE7C-74580FEE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B220-43E4-4288-8C70-FD3961DD8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0307-F776-4429-AE29-B754BCE59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5FA7-1F1A-4607-8D95-93E1A987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2138-8072-4259-831E-E4B4985C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6554-4FDE-4B57-B374-ECBC129E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A475-A4CA-4763-94D1-8AAB2CA6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BBC2-B65F-4980-BCFC-85094F40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998C-8647-4A09-8071-F1D2FDA2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30A4-25F6-476D-B3DB-7F24F3FB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50B5-BE04-4158-831C-D8AF92DB66B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6A28-89A5-48F9-900F-6F0C778354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A785-91AD-464F-B144-D151CF9A97C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B04F-A9E8-4EAE-8B76-FA23AF53BC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eskisilla.ee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8920" y="227628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cbcbcb"/>
                </a:solidFill>
                <a:latin typeface="Tahoma"/>
              </a:rPr>
              <a:t>European Paramotor Championships 2013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47640" y="549360"/>
            <a:ext cx="2340000" cy="1439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59280" y="69048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Estoni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Aerospor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Feder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44120" y="5191200"/>
            <a:ext cx="7227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t-EE" sz="2400" spc="-1" strike="noStrike">
                <a:solidFill>
                  <a:srgbClr val="000000"/>
                </a:solidFill>
                <a:latin typeface="Tahoma"/>
              </a:rPr>
              <a:t>ORGANIZ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Estonian Paragliding &amp; Paramotoring Assoc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84720" y="37519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3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Ma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2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June 20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95640" y="4399560"/>
            <a:ext cx="38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Location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üri, Esto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443640" y="512640"/>
            <a:ext cx="2016000" cy="1509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11280" y="3860640"/>
            <a:ext cx="2340000" cy="104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D8AB-D1BA-4E54-9A2E-4B3DD5857D0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E6DBB2E-412A-45BB-ADB5-A633942541E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Weath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,6 m/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rature 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 – 15 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d of May daytime high temperature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n mid Estoni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ten reach 25 C and over. Mean time night temperatures can be quite calm, even below 10 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ch difference may crea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rong thermals in midday, resulting usually in a non-flyable weather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pproximatel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om 12.00 to 16.00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time of the year Estonia is known by white nights, which means excellent flying conditions early in the morning (from 4.00) and late in the evening (until 22.00)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th utilizing the best flying weather available, it will be possible to provi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quite strange but ver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ble program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tead of exhaustive parawaiting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t midday it is possible to revert day and night - to sleep mainly at daytime and to be effective in competition flying at evenings and early morning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C3B5-28C0-441E-8C00-4D559B25181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CA6037-CF15-43D3-B2A6-76CD119EE5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Dat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rival, registration, inspection &amp; train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3. – 24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irst competition briefing, opening ceremony &amp; welcome dinner: 25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ompetition flying days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6. May –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Party: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ceremony &amp; Prizegiv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. Septemb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3832-7A17-4645-8A59-70D144E0E71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DC85E4-1A99-4523-B4C6-E39048146EB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040360" y="4549680"/>
            <a:ext cx="4103640" cy="23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2184-3F06-4A70-9E4C-48DA774DAB3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30DE81-31F1-416F-91C0-66142D7CBAA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Officia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 D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Ott Maaten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natas Samulenas L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uty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esa Subiceva L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oring Manag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lari Ilves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f Marshall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are Vanari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ternational Jury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reward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onitor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ain personnel is selected from the most competent of Baltic States. They all have significant paramotoring background as pilots and/or as organizers and teamleaders at many local and international paramotor competitions in recent yea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FD92-63BA-487E-943D-1487E19457D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8893A1-E46F-4A7B-B92F-C2A2107613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Class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motors: PF1 &amp; PF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trikes: PL1 &amp; PL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C336-CAA8-4E96-889E-53756F34261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ADF458-0AAF-480C-9A9F-4310AE50407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CADC-F254-4C22-98C9-F9BFED80A3C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21DA5E-8125-4433-B388-3A4CB65F72B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Med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PC Media Service will be established to deal with all media services and public rel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pecial internet site will be set up for online news, information, pictures and videos uploading and shar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Estonian most popular commercial TV channel “Kanal 2”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ll b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whole event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th specia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daily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al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V new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ge will b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rrang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port’s news of another commercial TV channel TV3 and in State Channel ETV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radio station “Kuma” will be p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t daily with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liv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s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BNS (Baltic News Service) agency will be provided with news by EPC Media Service dai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Video production will be organized for TV Special &amp; DVD rele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D57B-8B43-47F4-8393-3F1A0487AFE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7A5018-0D2E-4935-8FCF-C860FEF05CF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pilo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co-pilot (navigator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 for each teamleader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100.- € for assistant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 fee for family and visitors, exept for party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 will be lowered by 50.- if payd before 1. March 2013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etition management (setting, organizing, controlling and evaluating the tasks,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playing the results, briefings, prizegiving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media coverag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tc.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l competition materials (maps, task description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competition number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tc.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ining day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arrangement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(training task management etc.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ee use of the airfield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Free entrance to all official events, including opening and closing ceremonies with corresponding parties and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atherproof overnight storage for aircraft and equipment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vironmental fee (toilets and waste management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1EE6-85F0-45C8-B78B-5CA378D18BD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7F9D6C-CAAF-4046-88A4-F5D7A4939F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3465360"/>
            <a:ext cx="4572000" cy="3392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340200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35640" cy="3465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535640" y="0"/>
            <a:ext cx="460836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B668-5422-46BC-B1CE-8D53BFAE04EC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64161A-92E1-44CB-810D-D61D61C6B2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7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304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for Accommodation &amp; Catering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/person in double or triple hotel room with TV,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00.- €/person in 4 bed motel room with common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/person for camping (near the hotel) with shower &amp; toilet fascilities nearb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&amp; Catering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from 23.05. to 2.06. with late checkout option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TV, Showers and toilets according to accommodation categor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reless internet co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verage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Use of hotel and motel briefingrooms, meetingrooms, task planning spaces &amp; partyhall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Reasonable use of saunas every evening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Breakfast, lunch and dinner every day, starting from the dinner on 23.05 evening until the breakfast on 2.06. morning, excluding party dinners after the opening and closing ceremonies.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deal is valid also for teamleaders, assistants and family members upon availabilit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80E3-EB74-4E75-BAFE-0ABBE9D90E9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B93CEF-CE33-4CB0-853D-09A3269247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9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Index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Ven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D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Offici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Fe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5867280" cy="49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3873-3880-41FE-AE5B-A921DBCFBF4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9B2AF6-A288-4C77-90C4-B576D20C951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464160" y="3429000"/>
            <a:ext cx="267984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3446640"/>
            <a:ext cx="6443640" cy="3411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71636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0CBE-170B-4420-9E1E-EAE376F7E379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91FFFF-D40E-4162-A0CA-D42DEF392B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476280"/>
            <a:ext cx="3200400" cy="304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74320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nfo@eppa.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84360" y="411336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A615-4B4B-4FB1-9521-B4A42E02ED0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B02372-8DAC-486E-A98E-10B8B420AC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BB21-79E9-44C9-9BD2-CE7F55E816B1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3EEDE7-E68A-4E6D-AF33-24055E89AE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re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h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 of Estoni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 near small town Türi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tive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op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scapes with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fe landing option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rved exclusively for EPC 2013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 other flying activities in the are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of no-flying zone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light restriction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air traffic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ea with 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 population densit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of a small town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Tür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frastructure nearb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(2 k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194F-F96E-48E3-B2F0-CBAFAC4E980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F8C3DB-A0E5-40CA-B25F-FA92AF7F41F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600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5400" spc="-1" strike="noStrike">
                <a:solidFill>
                  <a:srgbClr val="000000"/>
                </a:solidFill>
                <a:latin typeface="Tahoma"/>
              </a:rPr>
              <a:t>Venue / Are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6FDF-DE1D-4BE9-9EF2-4A82A16FD6A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962CF0-A753-4941-BE60-7739063CA6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297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Airfield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24000" y="873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oordinates: 58°49`06.00"N  25°28`35.00"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640" y="4113360"/>
            <a:ext cx="799308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Elevation: 62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Main field size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0x400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Quality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sh clover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ield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 with no paved airstr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Distance to accommodation: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Nearest town: Türi,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DF96-81DE-4503-828B-21F614A3AD69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5939A0-AD05-4DDF-ACFC-F2B6E3A28E8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ccommod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tel “Veskisilla” (meaning “Millbridge”),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l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restored 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mepage: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t-EE" sz="18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www.veskisilla.e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Location: Türi-Alliku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, 1 km from Türi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ide,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100 km 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tu, 10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llin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erved exclusively for EPC 2013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 places in h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 places in m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limited places for camping with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noug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ers, saunas and toilet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ge catering and party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ll for over 200 people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 sauna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lot of rooms and spaces for briefings and meeting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reless interne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shop suppor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lternative activities for bad weather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6AC8-E658-4A9B-830D-424030D26EF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0AC561-DCBE-40CA-8DEC-58DEF977CA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247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9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C950-F0EC-44A1-A785-B6029D3070FD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9F9C67-26A0-4FB2-B2D9-0AA41BE861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6360" y="404640"/>
            <a:ext cx="7920000" cy="5940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4360" y="51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8D19-A801-440D-A5BC-D2DC9DB0EA21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6E4FE3-5F77-4CAF-8F86-AEEC437E7B6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rell</cp:lastModifiedBy>
  <dcterms:modified xsi:type="dcterms:W3CDTF">2011-11-10T15:48:0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